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28C4-D516-4797-BBF9-6E8FB426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6140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A6A8-2F90-4CC5-B302-76D3AF58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A10-6343-443A-9E88-4D109D80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304776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61400"/>
            <a:ext cx="250236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F4A-E2F8-4DD5-85EF-2271866C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8A4-9938-413B-98A0-E799C7A8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BBF-C8E9-402B-967B-33009B53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856-A617-4192-8009-8CD38BBB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DAC-F12B-49B6-9BD1-C42C9A1F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4A2-0371-4A89-B9D8-D7A0930C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9D2-7DF4-4A88-9830-B1B7B60E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6140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21A6-8457-4854-A6BD-5057A341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3047760"/>
            <a:ext cx="37926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61400"/>
            <a:ext cx="7772400" cy="11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210-1B68-4353-9A79-B89EC3A5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BAC5-B319-489C-A7FF-FB019C8FB64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95640" y="2852640"/>
            <a:ext cx="43812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di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e di Napoli, Assessorato alle Pari Opportunità e ai Tempi della Cit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&amp;S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rcidonna Nap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partimento di Scienze della Comunicazione dell’Università di Sal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m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relazione uomo donna per prevenire la violenza di gene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ala Pignatiello Palazzo San Giac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12 nove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re 10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te donne subiscono violenza da parte di familiari, conoscenti o estrane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enza fisica, sessuale, psicologica, familiare ed econo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i ISTAT 2006 (diffusi nel 20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ul fenomeno della violenza alle donn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Italia 6 milioni 743 mi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donne da 16 a 70 anni vittime di violenza fisica o sessua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l corso della vi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14,3% delle donne con un rapporto di coppia attuale o precedente ha subito almeno una violenza fisica o sessuale dal partner, se si considerano solo le donne con un ex partner la percentuale arriva al 17,3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violenza fisica è più di frequente opera dei partner (12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lla quasi totalità dei casi le violenze non sono denunc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violenze domestiche sono in maggioranza gr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o più colpite da violenza domestica le donne il cui partner è violento anche all’estern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 milioni 134 mila donne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no subito o subiscono violen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icolo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2 milioni 77 mila donne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comportamenti persecutori (stalking)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 milione 400 mila d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violenza sessuale prima dei 16 a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690 mila do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anno subito violenze ripetute da partner e avevano figli al momento della viol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amo partiti dai dati nazionali per capire la “scarsa significatività” dei dati a Nap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olo 460 donne si sono rivolte 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entro Antiviolenza “A.U.R.O.R.A.” del Comune di Nap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 questo nel Piano strategic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Città: femminile, plurale.”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iamo puntando anche sulla preven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3428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garantire i livelli di sicurezza a misura di do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ioni e servizi di contrasto della viol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le donne e sui min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re ai sentiment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o del progett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Sentimenti different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bilizzare al tema della prevenzione chi quotidianamente affronta il problema delle violenze alle donne per far sviluppare tra loro nuove forme di collabor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zione di una rete territoriale per la prevenzione della violenza alle do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14680" y="3247920"/>
            <a:ext cx="21146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corso formativo nelle scu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920" y="321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gazzi e ragazze della Scuola Media “G. Gigante”, dell’I.S.I.S. “F. De Sanctis” e del I.T.C. “F. Galiani” insieme ai docenti, ai formatori ed agli esperti analizzeranno la dimensione affettiva e le relazioni tra sessi allo scopo di esplorare stereotipi e modelli culturali che agiscono nel definire ruoli e rela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confronteranno sulle coppie di sentimenti differenti: amore e odio, paura e desiderio, gioia e dol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6:23:05Z</dcterms:created>
  <dc:creator>Antonio Prigiobbo</dc:creator>
  <dc:description/>
  <dc:language>en-US</dc:language>
  <cp:lastModifiedBy>Giuliana</cp:lastModifiedBy>
  <dcterms:modified xsi:type="dcterms:W3CDTF">2008-10-29T11:10:47Z</dcterms:modified>
  <cp:revision>14</cp:revision>
  <dc:subject/>
  <dc:title>Presentazione di PowerPoint</dc:title>
</cp:coreProperties>
</file>